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E51-579E-4769-BAD9-D265EA09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007-8FA9-4C08-AFC8-8CBE5460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039-27E5-437E-AC43-C27DC54A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27C-602D-4861-8B1A-4E1E5AFF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4250-CE8E-4AE2-8436-0342B5EE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120-4A95-454D-A229-0EB87C22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66AA-4C8F-49DD-820B-3B0BF053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9628-19D0-4D8E-A35A-0094A70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E6E7-1CB3-44E7-A208-488E032C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0824-4DE4-471D-B3D9-85FC4172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95E7-47AF-4AA5-A696-3076133B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5F5-1585-46D5-904F-2436EFD3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A058-AEB2-4E3A-88B9-A59C1FB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13B6-3A6D-47E3-8E51-1590DD07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A38-1EEA-4EA2-89E0-9E24728D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CF45-18A2-426A-B40F-EA8E03E4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46B6-082D-43E1-A73D-21A27220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6F4F-EC9A-4B12-B030-0F8BB8A1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5418-532D-4003-A7A1-AE5CA29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6ED6-457D-4315-8A57-04C752EC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F264-9B7A-4723-8355-466B914D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2C78-6FEE-4FD4-B812-01E1077C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D645-E677-4013-A980-A27AD44D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8D70B-2FC0-4495-BD85-53A16C0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E965-C6BA-4E60-A343-2F33B71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8C22-B381-49F5-8215-C7862EB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4773-D0F2-4441-BFF0-D344E69D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E421-C24D-47D5-8B7A-DA416FDC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E0C9-C9C6-4C7F-AE45-E031EC01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8458-BFB8-4CDF-A18D-7DF29265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B9D98-2C46-4ED4-846F-29E8FB0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4E07-36C1-4467-A9DF-B045AC3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99B5-79B4-4977-A86C-5E0CB31F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5F3F-C148-4EDC-994E-AD72B87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7713D-77C2-4466-AAA5-3769618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2F3D-F9CC-4F69-BFF6-651C3C82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82AC-648C-455A-9D87-4F81A5BF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0791-4166-4CF4-8062-B8335FE5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D333-FFEF-4786-BAA5-5AF1653E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317C-1BA0-45B5-B88A-5E1FD7DD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57EB4-192C-4F45-B705-6CEC52A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D5CDB-A997-49E6-AFAC-2D6FE9F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11D4-F44E-41D1-8C3A-4A327B8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712B6-5F3B-47F9-BC8A-8A40726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0D8F-A87B-4083-86A1-985B320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71D92-4E22-4FD4-B496-293C3D1D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C88A1-C2DC-4A23-897E-4DC121A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92D4-ADD0-4130-B31A-4944548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0E68-4253-437F-847E-2AB6F35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32E9-36A8-44BE-897D-FC942B01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8326-0AEC-49FC-B7CB-6494F7F9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EBEF-D5E2-4E2C-9052-78E9EF19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3C97-F675-4F2B-B769-1EED2A33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1ECE-1EDA-4B87-8CDE-95F394EA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F4424-38F1-4BA3-A2CA-2925FC8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0DDC3-141B-4294-8250-7E3B97A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D18E-DC50-4A8F-B915-5BB7378D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1887-CD64-4772-BCFC-C733784D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E9BE1-5C5C-4A40-96B0-B7A43BF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8B1-48A3-4A46-8343-05D2C419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24367-2AA8-4921-8F22-E7A0A81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F18A-30F9-4540-82AC-B820330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A6F3-A3F6-41DB-A0F4-A3A99B73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919C-485D-46F4-AFFF-ED6F3982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6231-D06D-48EC-BB31-03BC6D85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48A3-11CC-4B19-833D-EDA4D948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825F-1033-47B5-8B58-D71C3492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4982C-21BE-422E-BA13-C55C918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29311-6312-4633-BCEF-35190C2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47032-7A0E-4C46-BA80-BE3FBF3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49D8-E1B9-4857-BF05-5B9B5FC5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25CC-BD78-41EE-86FC-C971A9F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6F979-6770-4F59-AA46-B3614E8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BF542-304A-4424-B386-0BCA95D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3507-EE32-407C-9968-92A1B33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38753-62AC-44AD-8DB0-A74E0855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C481C-4C30-4C32-ADEF-8DA71509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8FB0-206D-42EC-A8D7-298495C3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BB3B1-29EE-40E9-91B4-BA3AEDB4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AE9C8-5414-492E-8704-0B4DEAE3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B00EC-02F9-4AF0-B475-989920DC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2FE1-9B85-4D43-A895-44384F4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3ABA-641E-482E-92B5-DEB7150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3B2C3-D5C4-4DBB-82BB-678120A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98816-8F78-47BF-8B68-B67A7E06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C2FE-DA41-4E50-AF08-D55279B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D7CC-2F18-40DA-85F3-82675E6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456BA-CEB1-4C04-B2D4-15D22916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1FEC-A630-4C5F-B48F-B82C3000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AE7B6-756A-4FFE-8A49-4821B7CB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8C06C-0450-4C29-AE25-F6C6F4CE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4AA4-0222-4283-9F13-8F92D40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C0E3C-3E0D-41F2-9F44-E62634F3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2088-171A-4808-BD6A-7DAFEAB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6E55D-2354-489E-8B7C-6808E24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71941-DFB7-41D4-B635-24BB5819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C84FC-08EF-4A64-BDCC-10C8DD9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B9FF3-4A47-467D-A97A-7A20B8A4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0EBE-1530-4223-A079-9CDE56A9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CAE3C-0379-434F-B0A0-2BDB718F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DB0E-DB28-4EFC-BB27-8EEB6390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6C006-F091-4A80-87B7-655DC161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43B6C-E849-4850-A4B0-27119AC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3DA9D-38D6-4806-B0B0-2FE2BDC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E8EFB-F258-472F-B247-A9A8CF6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165DB-58E1-415E-ABB6-15F0F2F4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2D53B-A79B-4D87-A927-12394E0D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7A85-3434-4398-9039-071929B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A43FC-EDAB-41FF-83A2-5239839D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148B3-9E70-4C0B-9D9A-7FF8022D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C1A2E-B559-4C48-9811-F636419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53E87-422C-441D-8500-2C345EFC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79225-5D88-40A1-97F7-303E8603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8416A-9DCF-4828-B307-F68F60E0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4220F-9F93-4F9E-B5CD-E18B2E62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EE529-27F5-4DC1-ABE2-A5BDD0FF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63DF-E60A-4B01-B17E-172D55D7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7FE26-810E-48C2-95A2-967205E0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95939-6EA1-4E1C-9FE6-516AFCD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D6961-3E6F-49DF-B1F1-AD6090A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18CB9-8EC3-446E-AE98-4B7F645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D6B43-BDC4-4DEC-800C-B0ADA22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4F547-6821-4F48-9C3A-7E3B3E1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9F603-1E7B-482C-A27B-30D16051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E14B9-FB8D-47C8-ACB1-B50F47C2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67D-E045-476F-8073-DDF7F39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47A-8871-4E0E-B3F5-CCED5215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20F-0614-4513-9CB6-9A8EE6FB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46D-19AB-4CD9-A1FF-11301CC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ADB-DB60-4C03-855C-DD6FE3B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E99-C930-4BE5-8217-A838BE6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B98-9D69-4E5B-A64B-DA1B82A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152-1057-4947-8B33-38C80914F2D0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f400"/>
          </a:solidFill>
          <a:ln w="9360">
            <a:solidFill>
              <a:srgbClr val="00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ff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fffc00"/>
          </a:solidFill>
          <a:ln w="9360">
            <a:solidFill>
              <a:srgbClr val="ff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AutoShape 3"/>
          <p:cNvSpPr/>
          <p:nvPr/>
        </p:nvSpPr>
        <p:spPr>
          <a:xfrm>
            <a:off x="142920" y="322200"/>
            <a:ext cx="8880480" cy="6351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0" y="0"/>
            <a:ext cx="8523360" cy="1125360"/>
          </a:xfrm>
          <a:custGeom>
            <a:avLst/>
            <a:gdLst>
              <a:gd name="textAreaLeft" fmla="*/ 0 w 8523360"/>
              <a:gd name="textAreaRight" fmla="*/ 4262400 w 85233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573" h="1000">
                <a:moveTo>
                  <a:pt x="0" y="0"/>
                </a:moveTo>
                <a:lnTo>
                  <a:pt x="7072" y="0"/>
                </a:lnTo>
                <a:cubicBezTo>
                  <a:pt x="7349" y="0"/>
                  <a:pt x="7573" y="223"/>
                  <a:pt x="7573" y="500"/>
                </a:cubicBezTo>
                <a:cubicBezTo>
                  <a:pt x="7573" y="776"/>
                  <a:pt x="7349" y="999"/>
                  <a:pt x="7073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D08-8508-42F5-8828-D6596C28CED3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1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B86-221D-426F-A0DE-35DE72BC7A89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79D-00AE-4F35-A39C-5C11CB4CA340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0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474-2ECD-464D-B1AE-570413E3807D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4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F9D-31D9-4144-B6F0-C1EEEBF3D397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68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A3D0-CBB1-4DDD-9F7C-C50D6FD586E9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3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6" name="PlaceHolder 1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FEEB-D726-4E82-B65E-774BAA3F69F8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138240" y="476280"/>
            <a:ext cx="8862840" cy="61642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8459640" cy="1104840"/>
          </a:xfrm>
          <a:custGeom>
            <a:avLst/>
            <a:gdLst>
              <a:gd name="textAreaLeft" fmla="*/ 0 w 8459640"/>
              <a:gd name="textAreaRight" fmla="*/ 4230360 w 84596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7657" h="1000">
                <a:moveTo>
                  <a:pt x="0" y="0"/>
                </a:moveTo>
                <a:lnTo>
                  <a:pt x="7156" y="0"/>
                </a:lnTo>
                <a:cubicBezTo>
                  <a:pt x="7433" y="0"/>
                  <a:pt x="7657" y="223"/>
                  <a:pt x="7657" y="500"/>
                </a:cubicBezTo>
                <a:cubicBezTo>
                  <a:pt x="7657" y="776"/>
                  <a:pt x="7433" y="999"/>
                  <a:pt x="7157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7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ftr" idx="26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A0C-F356-4A1A-989A-0D5096D6CDB8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2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69F-5354-4EE9-89CA-C0C9B2539563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6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3E17-6678-4B11-9D1A-6A0A46C9A5C1}" type="slidenum">
              <a:rPr b="0" lang="sl-SI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3"/>
          <p:cNvSpPr/>
          <p:nvPr/>
        </p:nvSpPr>
        <p:spPr>
          <a:xfrm>
            <a:off x="166680" y="533520"/>
            <a:ext cx="8827920" cy="613404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8534520" cy="1131840"/>
          </a:xfrm>
          <a:custGeom>
            <a:avLst/>
            <a:gdLst>
              <a:gd name="textAreaLeft" fmla="*/ 0 w 8534520"/>
              <a:gd name="textAreaRight" fmla="*/ 4267440 w 853452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7540" h="1000">
                <a:moveTo>
                  <a:pt x="0" y="0"/>
                </a:moveTo>
                <a:lnTo>
                  <a:pt x="7039" y="0"/>
                </a:lnTo>
                <a:cubicBezTo>
                  <a:pt x="7316" y="0"/>
                  <a:pt x="7540" y="223"/>
                  <a:pt x="7540" y="500"/>
                </a:cubicBezTo>
                <a:cubicBezTo>
                  <a:pt x="7540" y="776"/>
                  <a:pt x="7316" y="999"/>
                  <a:pt x="7040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9c00"/>
          </a:solidFill>
          <a:ln w="9360">
            <a:solidFill>
              <a:srgbClr val="009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818181"/>
          </a:solidFill>
          <a:ln w="936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00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00bbfe"/>
          </a:solidFill>
          <a:ln w="9360">
            <a:solidFill>
              <a:srgbClr val="00bb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>
            <a:off x="166680" y="493560"/>
            <a:ext cx="8871120" cy="615168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ea8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0" y="0"/>
            <a:ext cx="8534520" cy="1154160"/>
          </a:xfrm>
          <a:custGeom>
            <a:avLst/>
            <a:gdLst>
              <a:gd name="textAreaLeft" fmla="*/ 0 w 8534520"/>
              <a:gd name="textAreaRight" fmla="*/ 4267800 w 8534520"/>
              <a:gd name="textAreaTop" fmla="*/ 0 h 1154160"/>
              <a:gd name="textAreaBottom" fmla="*/ 1154520 h 1154160"/>
            </a:gdLst>
            <a:ahLst/>
            <a:rect l="textAreaLeft" t="textAreaTop" r="textAreaRight" b="textAreaBottom"/>
            <a:pathLst>
              <a:path w="7395" h="1000">
                <a:moveTo>
                  <a:pt x="0" y="0"/>
                </a:moveTo>
                <a:lnTo>
                  <a:pt x="6894" y="0"/>
                </a:lnTo>
                <a:cubicBezTo>
                  <a:pt x="7171" y="0"/>
                  <a:pt x="7395" y="223"/>
                  <a:pt x="7395" y="500"/>
                </a:cubicBezTo>
                <a:cubicBezTo>
                  <a:pt x="7395" y="776"/>
                  <a:pt x="7171" y="999"/>
                  <a:pt x="6895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ea850a"/>
          </a:solidFill>
          <a:ln w="9360">
            <a:solidFill>
              <a:srgbClr val="ea8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2769a"/>
            </a:gs>
            <a:gs pos="100000">
              <a:srgbClr val="91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2 Rectángulo" descr=""/>
          <p:cNvPicPr/>
          <p:nvPr/>
        </p:nvPicPr>
        <p:blipFill>
          <a:blip r:embed="rId1"/>
          <a:stretch/>
        </p:blipFill>
        <p:spPr>
          <a:xfrm>
            <a:off x="1122480" y="2535120"/>
            <a:ext cx="7010280" cy="112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7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COND v. 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395280" y="4437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IFFERENCE: SECOND and THIRD CONDI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ab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conditional: refers to the present and futur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conditional: refers to the past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210960" y="1622520"/>
            <a:ext cx="839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f I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e00000"/>
                </a:solidFill>
                <a:latin typeface="Comic Sans MS"/>
              </a:rPr>
              <a:t>saw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car accident,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would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all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ambulance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112680" y="2852640"/>
            <a:ext cx="903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e00000"/>
                </a:solidFill>
                <a:latin typeface="Comic Sans MS"/>
              </a:rPr>
              <a:t>had see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car accident,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would have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call</a:t>
            </a:r>
            <a:r>
              <a:rPr b="1" lang="en-GB" sz="22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 ambulance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1116000" y="2276640"/>
            <a:ext cx="80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I don’t see an accident now. This is unlikely to happe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3708360" y="3500280"/>
            <a:ext cx="51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t I didn’t see an accident yesterday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s contrary to the fact in the pa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1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IRST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23"/>
          <p:cNvSpPr/>
          <p:nvPr/>
        </p:nvSpPr>
        <p:spPr>
          <a:xfrm>
            <a:off x="395280" y="1341360"/>
            <a:ext cx="8485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eather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  <a:ea typeface="Times New Roman"/>
              </a:rPr>
              <a:t>is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ce,     we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will 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a walk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  <a:ea typeface="Times New Roman"/>
              </a:rPr>
              <a:t>don’t apologiz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she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ver </a:t>
            </a:r>
            <a:r>
              <a:rPr b="1" lang="en-GB" sz="2400" spc="-1" strike="noStrike">
                <a:solidFill>
                  <a:srgbClr val="007200"/>
                </a:solidFill>
                <a:latin typeface="Arial"/>
                <a:ea typeface="Times New Roman"/>
              </a:rPr>
              <a:t>trust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ou ag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24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25"/>
          <p:cNvSpPr/>
          <p:nvPr/>
        </p:nvSpPr>
        <p:spPr>
          <a:xfrm>
            <a:off x="529272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539640" y="4581360"/>
            <a:ext cx="8136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conditional refers to the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It expresses a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ossible condi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its </a:t>
            </a:r>
            <a:r>
              <a:rPr b="1" lang="en-GB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probable result in the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971640" y="3068640"/>
            <a:ext cx="287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lause: </a:t>
            </a:r>
            <a:r>
              <a:rPr b="1" lang="en-GB" sz="2400" spc="-1" strike="noStrike">
                <a:solidFill>
                  <a:srgbClr val="00cc00"/>
                </a:solidFill>
                <a:latin typeface="Arial"/>
              </a:rPr>
              <a:t>PRESENT SIMP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4356000" y="3068640"/>
            <a:ext cx="288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400"/>
            </a:br>
            <a:r>
              <a:rPr b="1" lang="en-GB" sz="2400" spc="-1" strike="noStrike">
                <a:solidFill>
                  <a:srgbClr val="007200"/>
                </a:solidFill>
                <a:latin typeface="Arial"/>
              </a:rPr>
              <a:t>FUTURE SI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2"/>
          <p:cNvSpPr/>
          <p:nvPr/>
        </p:nvSpPr>
        <p:spPr>
          <a:xfrm>
            <a:off x="826920" y="1341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ck wants to buy a house but he can’t do this because he doesn’t have any mone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AutoShape 3"/>
          <p:cNvSpPr/>
          <p:nvPr/>
        </p:nvSpPr>
        <p:spPr>
          <a:xfrm>
            <a:off x="539640" y="2421000"/>
            <a:ext cx="5040360" cy="1295280"/>
          </a:xfrm>
          <a:prstGeom prst="wedgeEllipseCallout">
            <a:avLst>
              <a:gd name="adj1" fmla="val -1180"/>
              <a:gd name="adj2" fmla="val 113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lot of money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ould bu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big hou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8" name="Picture 4" descr="j0230754"/>
          <p:cNvPicPr/>
          <p:nvPr/>
        </p:nvPicPr>
        <p:blipFill>
          <a:blip r:embed="rId1">
            <a:grayscl/>
          </a:blip>
          <a:stretch/>
        </p:blipFill>
        <p:spPr>
          <a:xfrm>
            <a:off x="1498680" y="4221000"/>
            <a:ext cx="1971720" cy="239904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5"/>
          <p:cNvGrpSpPr/>
          <p:nvPr/>
        </p:nvGrpSpPr>
        <p:grpSpPr>
          <a:xfrm>
            <a:off x="5940360" y="2422440"/>
            <a:ext cx="2736720" cy="2519280"/>
            <a:chOff x="5940360" y="2422440"/>
            <a:chExt cx="2736720" cy="2519280"/>
          </a:xfrm>
        </p:grpSpPr>
        <p:sp>
          <p:nvSpPr>
            <p:cNvPr id="920" name="AutoShape 6"/>
            <p:cNvSpPr/>
            <p:nvPr/>
          </p:nvSpPr>
          <p:spPr>
            <a:xfrm>
              <a:off x="5940360" y="242244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21" name="Picture 7" descr="bd06132_"/>
            <p:cNvPicPr/>
            <p:nvPr/>
          </p:nvPicPr>
          <p:blipFill>
            <a:blip r:embed="rId2"/>
            <a:stretch/>
          </p:blipFill>
          <p:spPr>
            <a:xfrm>
              <a:off x="6661080" y="2854080"/>
              <a:ext cx="122544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8"/>
          <p:cNvGrpSpPr/>
          <p:nvPr/>
        </p:nvGrpSpPr>
        <p:grpSpPr>
          <a:xfrm>
            <a:off x="5940360" y="2421000"/>
            <a:ext cx="2736720" cy="2519280"/>
            <a:chOff x="5940360" y="2421000"/>
            <a:chExt cx="2736720" cy="2519280"/>
          </a:xfrm>
        </p:grpSpPr>
        <p:sp>
          <p:nvSpPr>
            <p:cNvPr id="923" name="AutoShape 9"/>
            <p:cNvSpPr/>
            <p:nvPr/>
          </p:nvSpPr>
          <p:spPr>
            <a:xfrm>
              <a:off x="5940360" y="242100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24" name="Picture 10" descr="bl00345_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300720" y="2565360"/>
              <a:ext cx="2089080" cy="163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5" name="Text Box 11"/>
          <p:cNvSpPr/>
          <p:nvPr/>
        </p:nvSpPr>
        <p:spPr>
          <a:xfrm>
            <a:off x="324000" y="266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2"/>
          <p:cNvGrpSpPr/>
          <p:nvPr/>
        </p:nvGrpSpPr>
        <p:grpSpPr>
          <a:xfrm>
            <a:off x="684360" y="4365720"/>
            <a:ext cx="3958560" cy="2193840"/>
            <a:chOff x="684360" y="4365720"/>
            <a:chExt cx="3958560" cy="2193840"/>
          </a:xfrm>
        </p:grpSpPr>
        <p:pic>
          <p:nvPicPr>
            <p:cNvPr id="927" name="Picture 3" descr="j0230737"/>
            <p:cNvPicPr/>
            <p:nvPr/>
          </p:nvPicPr>
          <p:blipFill>
            <a:blip r:embed="rId1"/>
            <a:stretch/>
          </p:blipFill>
          <p:spPr>
            <a:xfrm>
              <a:off x="2041920" y="4365720"/>
              <a:ext cx="260100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" descr="j0230332"/>
            <p:cNvPicPr/>
            <p:nvPr/>
          </p:nvPicPr>
          <p:blipFill>
            <a:blip r:embed="rId2"/>
            <a:stretch/>
          </p:blipFill>
          <p:spPr>
            <a:xfrm>
              <a:off x="684360" y="5750280"/>
              <a:ext cx="1290600" cy="78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9" name="Group 5"/>
          <p:cNvGrpSpPr/>
          <p:nvPr/>
        </p:nvGrpSpPr>
        <p:grpSpPr>
          <a:xfrm>
            <a:off x="6084720" y="2637000"/>
            <a:ext cx="2736720" cy="2376360"/>
            <a:chOff x="6084720" y="2637000"/>
            <a:chExt cx="2736720" cy="2376360"/>
          </a:xfrm>
        </p:grpSpPr>
        <p:pic>
          <p:nvPicPr>
            <p:cNvPr id="930" name="Picture 6" descr="j0230746"/>
            <p:cNvPicPr/>
            <p:nvPr/>
          </p:nvPicPr>
          <p:blipFill>
            <a:blip r:embed="rId3"/>
            <a:stretch/>
          </p:blipFill>
          <p:spPr>
            <a:xfrm>
              <a:off x="6732360" y="2925720"/>
              <a:ext cx="13064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AutoShape 7"/>
            <p:cNvSpPr/>
            <p:nvPr/>
          </p:nvSpPr>
          <p:spPr>
            <a:xfrm>
              <a:off x="6084720" y="2637000"/>
              <a:ext cx="2736720" cy="2376360"/>
            </a:xfrm>
            <a:prstGeom prst="cloudCallout">
              <a:avLst>
                <a:gd name="adj1" fmla="val -139731"/>
                <a:gd name="adj2" fmla="val 32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2" name="Text Box 8"/>
          <p:cNvSpPr/>
          <p:nvPr/>
        </p:nvSpPr>
        <p:spPr>
          <a:xfrm>
            <a:off x="826920" y="141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san wants to phone Paul but she can’t do this because she doesn’t know his numbe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9"/>
          <p:cNvSpPr/>
          <p:nvPr/>
        </p:nvSpPr>
        <p:spPr>
          <a:xfrm>
            <a:off x="539640" y="2565360"/>
            <a:ext cx="4680000" cy="1008000"/>
          </a:xfrm>
          <a:prstGeom prst="wedgeEllipseCallout">
            <a:avLst>
              <a:gd name="adj1" fmla="val 10277"/>
              <a:gd name="adj2" fmla="val 1526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number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ould pho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755640" y="148428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h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lot of money, I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would bu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kne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number, I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would phon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Line 3"/>
          <p:cNvSpPr/>
          <p:nvPr/>
        </p:nvSpPr>
        <p:spPr>
          <a:xfrm>
            <a:off x="2050920" y="249228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5796000" y="2565360"/>
            <a:ext cx="0" cy="7192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 Box 5"/>
          <p:cNvSpPr/>
          <p:nvPr/>
        </p:nvSpPr>
        <p:spPr>
          <a:xfrm>
            <a:off x="324000" y="32130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-clause: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ST TENSE SI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6"/>
          <p:cNvSpPr/>
          <p:nvPr/>
        </p:nvSpPr>
        <p:spPr>
          <a:xfrm>
            <a:off x="3924360" y="3213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400"/>
            </a:b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PRESENT CONDITIONAL</a:t>
            </a:r>
            <a:br>
              <a:rPr sz="2400"/>
            </a:br>
            <a:r>
              <a:rPr b="1" lang="sl-SI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ould + infin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Verdana"/>
              </a:rPr>
              <a:t>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 Box 8"/>
          <p:cNvSpPr/>
          <p:nvPr/>
        </p:nvSpPr>
        <p:spPr>
          <a:xfrm>
            <a:off x="557280" y="4508640"/>
            <a:ext cx="7957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cond conditional refers to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the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express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unreal situ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its probable resul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tuation or condition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bable, impossib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agina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 or contrary to known fa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Text Box 12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IRST v. SECON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Text Box 13"/>
          <p:cNvSpPr/>
          <p:nvPr/>
        </p:nvSpPr>
        <p:spPr>
          <a:xfrm>
            <a:off x="61128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DIFFERENCE: FIRST and SECOND CONDI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onditionals refer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fference is ab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conditional: real and possible situ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conditional: unlikely to 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395280" y="1628640"/>
            <a:ext cx="626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John </a:t>
            </a:r>
            <a:r>
              <a:rPr b="0" lang="en-GB" sz="2600" spc="-1" strike="noStrike">
                <a:solidFill>
                  <a:srgbClr val="e00000"/>
                </a:solidFill>
                <a:latin typeface="Comic Sans MS"/>
              </a:rPr>
              <a:t>runs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ast, he 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will wi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the ra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Text Box 15"/>
          <p:cNvSpPr/>
          <p:nvPr/>
        </p:nvSpPr>
        <p:spPr>
          <a:xfrm>
            <a:off x="395280" y="28526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f John </a:t>
            </a:r>
            <a:r>
              <a:rPr b="0" lang="en-GB" sz="2600" spc="-1" strike="noStrike">
                <a:solidFill>
                  <a:srgbClr val="e00000"/>
                </a:solidFill>
                <a:latin typeface="Comic Sans MS"/>
              </a:rPr>
              <a:t>ra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ast, he 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would win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the ra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Text Box 16"/>
          <p:cNvSpPr/>
          <p:nvPr/>
        </p:nvSpPr>
        <p:spPr>
          <a:xfrm>
            <a:off x="4462560" y="2276640"/>
            <a:ext cx="46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is is still possible to happ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Text Box 17"/>
          <p:cNvSpPr/>
          <p:nvPr/>
        </p:nvSpPr>
        <p:spPr>
          <a:xfrm>
            <a:off x="861840" y="3573360"/>
            <a:ext cx="82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is is unlikely to happen because John doesn’t run f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4"/>
          <p:cNvSpPr/>
          <p:nvPr/>
        </p:nvSpPr>
        <p:spPr>
          <a:xfrm>
            <a:off x="324000" y="18900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324000" y="18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Text Box 16"/>
          <p:cNvSpPr/>
          <p:nvPr/>
        </p:nvSpPr>
        <p:spPr>
          <a:xfrm>
            <a:off x="468360" y="1270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ck wanted to buy a house </a:t>
            </a:r>
            <a:r>
              <a:rPr b="1" lang="en-GB" sz="2400" spc="-1" strike="noStrike">
                <a:solidFill>
                  <a:srgbClr val="0000ff"/>
                </a:solidFill>
                <a:latin typeface="Verdana"/>
              </a:rPr>
              <a:t>last yea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ut he couldn’t do that because he didn’t have any money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AutoShape 17"/>
          <p:cNvSpPr/>
          <p:nvPr/>
        </p:nvSpPr>
        <p:spPr>
          <a:xfrm>
            <a:off x="324000" y="2349360"/>
            <a:ext cx="5616360" cy="1295640"/>
          </a:xfrm>
          <a:prstGeom prst="wedgeEllipseCallout">
            <a:avLst>
              <a:gd name="adj1" fmla="val -2347"/>
              <a:gd name="adj2" fmla="val 1138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d ha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lot of money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ould have bough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2" name="Picture 18" descr="j0230754"/>
          <p:cNvPicPr/>
          <p:nvPr/>
        </p:nvPicPr>
        <p:blipFill>
          <a:blip r:embed="rId1">
            <a:grayscl/>
          </a:blip>
          <a:stretch/>
        </p:blipFill>
        <p:spPr>
          <a:xfrm>
            <a:off x="1498680" y="4149720"/>
            <a:ext cx="1971720" cy="239868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19"/>
          <p:cNvGrpSpPr/>
          <p:nvPr/>
        </p:nvGrpSpPr>
        <p:grpSpPr>
          <a:xfrm>
            <a:off x="5940360" y="2351160"/>
            <a:ext cx="2736720" cy="2519280"/>
            <a:chOff x="5940360" y="2351160"/>
            <a:chExt cx="2736720" cy="2519280"/>
          </a:xfrm>
        </p:grpSpPr>
        <p:sp>
          <p:nvSpPr>
            <p:cNvPr id="954" name="AutoShape 20"/>
            <p:cNvSpPr/>
            <p:nvPr/>
          </p:nvSpPr>
          <p:spPr>
            <a:xfrm>
              <a:off x="5940360" y="2351160"/>
              <a:ext cx="2736720" cy="2519280"/>
            </a:xfrm>
            <a:prstGeom prst="cloudCallout">
              <a:avLst>
                <a:gd name="adj1" fmla="val -139731"/>
                <a:gd name="adj2" fmla="val 3324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5" name="Picture 21" descr="bd06132_"/>
            <p:cNvPicPr/>
            <p:nvPr/>
          </p:nvPicPr>
          <p:blipFill>
            <a:blip r:embed="rId2"/>
            <a:stretch/>
          </p:blipFill>
          <p:spPr>
            <a:xfrm>
              <a:off x="6661080" y="2782800"/>
              <a:ext cx="122544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6" name="Group 22"/>
          <p:cNvGrpSpPr/>
          <p:nvPr/>
        </p:nvGrpSpPr>
        <p:grpSpPr>
          <a:xfrm>
            <a:off x="5940360" y="2349360"/>
            <a:ext cx="2736720" cy="2519640"/>
            <a:chOff x="5940360" y="2349360"/>
            <a:chExt cx="2736720" cy="2519640"/>
          </a:xfrm>
        </p:grpSpPr>
        <p:sp>
          <p:nvSpPr>
            <p:cNvPr id="957" name="AutoShape 23"/>
            <p:cNvSpPr/>
            <p:nvPr/>
          </p:nvSpPr>
          <p:spPr>
            <a:xfrm>
              <a:off x="5940360" y="2349360"/>
              <a:ext cx="2736720" cy="2519640"/>
            </a:xfrm>
            <a:prstGeom prst="cloudCallout">
              <a:avLst>
                <a:gd name="adj1" fmla="val -139731"/>
                <a:gd name="adj2" fmla="val 332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58" name="Picture 24" descr="bl00345_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300720" y="2494080"/>
              <a:ext cx="2089080" cy="163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 Box 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1" name="Group 4"/>
          <p:cNvGrpSpPr/>
          <p:nvPr/>
        </p:nvGrpSpPr>
        <p:grpSpPr>
          <a:xfrm>
            <a:off x="900000" y="4581360"/>
            <a:ext cx="3958920" cy="2194200"/>
            <a:chOff x="900000" y="4581360"/>
            <a:chExt cx="3958920" cy="2194200"/>
          </a:xfrm>
        </p:grpSpPr>
        <p:pic>
          <p:nvPicPr>
            <p:cNvPr id="962" name="Picture 5" descr="j0230737"/>
            <p:cNvPicPr/>
            <p:nvPr/>
          </p:nvPicPr>
          <p:blipFill>
            <a:blip r:embed="rId1"/>
            <a:stretch/>
          </p:blipFill>
          <p:spPr>
            <a:xfrm>
              <a:off x="2257920" y="4581360"/>
              <a:ext cx="2601000" cy="21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Picture 6" descr="j0230332"/>
            <p:cNvPicPr/>
            <p:nvPr/>
          </p:nvPicPr>
          <p:blipFill>
            <a:blip r:embed="rId2"/>
            <a:stretch/>
          </p:blipFill>
          <p:spPr>
            <a:xfrm>
              <a:off x="900000" y="5966280"/>
              <a:ext cx="1290600" cy="78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4" name="Group 7"/>
          <p:cNvGrpSpPr/>
          <p:nvPr/>
        </p:nvGrpSpPr>
        <p:grpSpPr>
          <a:xfrm>
            <a:off x="6084720" y="2852640"/>
            <a:ext cx="2736720" cy="2376360"/>
            <a:chOff x="6084720" y="2852640"/>
            <a:chExt cx="2736720" cy="2376360"/>
          </a:xfrm>
        </p:grpSpPr>
        <p:pic>
          <p:nvPicPr>
            <p:cNvPr id="965" name="Picture 8" descr="j0230746"/>
            <p:cNvPicPr/>
            <p:nvPr/>
          </p:nvPicPr>
          <p:blipFill>
            <a:blip r:embed="rId3"/>
            <a:stretch/>
          </p:blipFill>
          <p:spPr>
            <a:xfrm>
              <a:off x="6732360" y="3141360"/>
              <a:ext cx="13064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AutoShape 9"/>
            <p:cNvSpPr/>
            <p:nvPr/>
          </p:nvSpPr>
          <p:spPr>
            <a:xfrm>
              <a:off x="6084720" y="2852640"/>
              <a:ext cx="2736720" cy="2376360"/>
            </a:xfrm>
            <a:prstGeom prst="cloudCallout">
              <a:avLst>
                <a:gd name="adj1" fmla="val -139731"/>
                <a:gd name="adj2" fmla="val 32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7" name="Text Box 10"/>
          <p:cNvSpPr/>
          <p:nvPr/>
        </p:nvSpPr>
        <p:spPr>
          <a:xfrm>
            <a:off x="250920" y="1413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Verdana"/>
              </a:rPr>
              <a:t>Yesterd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Susan wanted to phone Paul but she couldn’t do that because she didn’t know his numbe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AutoShape 11"/>
          <p:cNvSpPr/>
          <p:nvPr/>
        </p:nvSpPr>
        <p:spPr>
          <a:xfrm>
            <a:off x="539640" y="2637000"/>
            <a:ext cx="5327640" cy="1152360"/>
          </a:xfrm>
          <a:prstGeom prst="wedgeEllipseCallout">
            <a:avLst>
              <a:gd name="adj1" fmla="val 7004"/>
              <a:gd name="adj2" fmla="val 139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d know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s number,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ould have phon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324000" y="260280"/>
            <a:ext cx="734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32400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THIRD CONDITION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468360" y="1484280"/>
            <a:ext cx="8424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3889f6"/>
                </a:solidFill>
                <a:latin typeface="Comic Sans MS"/>
              </a:rPr>
              <a:t>had ha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lot of money, I </a:t>
            </a:r>
            <a:r>
              <a:rPr b="1" lang="en-GB" sz="2200" spc="-1" strike="noStrike">
                <a:solidFill>
                  <a:srgbClr val="0000cc"/>
                </a:solidFill>
                <a:latin typeface="Comic Sans MS"/>
              </a:rPr>
              <a:t>would have bough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 big hou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f I </a:t>
            </a:r>
            <a:r>
              <a:rPr b="1" lang="en-GB" sz="2200" spc="-1" strike="noStrike">
                <a:solidFill>
                  <a:srgbClr val="3889f6"/>
                </a:solidFill>
                <a:latin typeface="Comic Sans MS"/>
              </a:rPr>
              <a:t>had know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s number, I </a:t>
            </a:r>
            <a:r>
              <a:rPr b="1" lang="en-GB" sz="2200" spc="-1" strike="noStrike">
                <a:solidFill>
                  <a:srgbClr val="0000cc"/>
                </a:solidFill>
                <a:latin typeface="Comic Sans MS"/>
              </a:rPr>
              <a:t>would have phoned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h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Line 5"/>
          <p:cNvSpPr/>
          <p:nvPr/>
        </p:nvSpPr>
        <p:spPr>
          <a:xfrm>
            <a:off x="2050920" y="2492280"/>
            <a:ext cx="0" cy="647640"/>
          </a:xfrm>
          <a:prstGeom prst="line">
            <a:avLst/>
          </a:prstGeom>
          <a:ln w="9360">
            <a:solidFill>
              <a:srgbClr val="3889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Line 6"/>
          <p:cNvSpPr/>
          <p:nvPr/>
        </p:nvSpPr>
        <p:spPr>
          <a:xfrm>
            <a:off x="5796000" y="2565360"/>
            <a:ext cx="0" cy="719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324000" y="3213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-clause:</a:t>
            </a:r>
            <a:br>
              <a:rPr sz="2200"/>
            </a:br>
            <a:r>
              <a:rPr b="1" lang="en-GB" sz="2200" spc="-1" strike="noStrike">
                <a:solidFill>
                  <a:srgbClr val="3889f6"/>
                </a:solidFill>
                <a:latin typeface="Arial"/>
              </a:rPr>
              <a:t>PAST PERFECT SI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3995640" y="321300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 clause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200" spc="-1" strike="noStrike">
                <a:solidFill>
                  <a:srgbClr val="0000cc"/>
                </a:solidFill>
                <a:latin typeface="Arial"/>
              </a:rPr>
              <a:t>PAST CONDITIONAL</a:t>
            </a:r>
            <a:br>
              <a:rPr sz="2200"/>
            </a:br>
            <a:r>
              <a:rPr b="1" lang="en-GB" sz="2200" spc="-1" strike="noStrike">
                <a:solidFill>
                  <a:srgbClr val="0000cc"/>
                </a:solidFill>
                <a:latin typeface="Arial"/>
              </a:rPr>
              <a:t>would + have + past partici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1158120" y="4653000"/>
            <a:ext cx="7299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hird conditional refers to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the pa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not based on fac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It expresses the a situ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ontrary to reality in the pa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9:34:33Z</dcterms:created>
  <dc:creator>x</dc:creator>
  <dc:description/>
  <dc:language>en-US</dc:language>
  <cp:lastModifiedBy> </cp:lastModifiedBy>
  <dcterms:modified xsi:type="dcterms:W3CDTF">2011-02-23T21:30:38Z</dcterms:modified>
  <cp:revision>22</cp:revision>
  <dc:subject/>
  <dc:title>Diapozitiv 1</dc:title>
</cp:coreProperties>
</file>